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8564-EF3A-49AC-811B-2CC30A5E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0EC1-266A-493C-996A-CD3298F5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8FE5-FFFD-4D55-BD6E-A532ED432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FF78-E3CA-49B3-909C-6259F63A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B3DD-77F4-468C-BFEA-88399A11D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4F13-C6FC-4301-9F4C-7DB614D4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5BDB-2A46-4628-A597-2EEB3872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8194-FDEF-43B5-BC64-3F680935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5786-396A-4B82-8C76-1D7E11B8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36B8-415B-44FA-9B1D-F306C744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BFD2-661D-49C1-83CC-222BC5AC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83D2-E877-4E3A-949A-F36A16BF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7E71-4356-4A05-82C5-43E8B63E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DFB3-08A6-4CCA-904C-0C0615E9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D06F-E311-47F8-A0B3-C618BF9C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5146-D3FA-4F6B-B752-B449F9BBC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EC9D-049B-4C18-80E6-F5355C371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2706F-C0FC-44D1-8481-E1C43D5A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0D5B9-AF7D-4789-BEF1-BD202BC0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571A2-FDA9-43DA-9E1E-0A1F10B3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C6572-5D7B-462C-AEC9-8886DE5D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ECD62-CE98-48C7-990C-3F8050AE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6519-11F5-467D-AE21-3C9B3E19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57F8A-4370-4E7A-A0C4-6F011751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8FED2-CF33-49A2-B958-BF9DFE6B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5B446-2C82-4EAF-A850-EE0F663F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56808-083D-4BF6-B8D9-50429829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E6530-D302-4CED-8B2A-56FF8427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59014-5E43-4313-AA7D-E0FA2D17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05D56-F6BF-4E87-9A60-E1FF6511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93BF-DA48-4E1C-A788-16A602E8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2A2B-F7FB-46B8-8AFD-7BA93D41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7543-2BDE-4F01-9283-63009FCC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B039-EA9D-4D9A-8FC4-3BC4B914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E992-AFB3-4945-B017-D1D0BB51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E340-A480-486A-B155-17AF53EF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A93C-9EC0-49E9-9E2B-0A39BE2F1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06FD-B453-471E-833F-244FAA3A46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94FF-25D7-40D5-98AC-76A1D16BB5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UnZialish"/>
              </a:rPr>
              <a:t>Lazerrus Dream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470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02:24:13Z</dcterms:created>
  <dc:creator>Mark Martinez</dc:creator>
  <dc:description/>
  <dc:language>en-US</dc:language>
  <cp:lastModifiedBy>Mark Martinez</cp:lastModifiedBy>
  <dcterms:modified xsi:type="dcterms:W3CDTF">2007-10-02T03:12:18Z</dcterms:modified>
  <cp:revision>10</cp:revision>
  <dc:subject/>
  <dc:title>Lazerrus Dream</dc:title>
</cp:coreProperties>
</file>